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4598-F61E-48C9-B8C5-6991D7AD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D760-076D-4355-AB11-0D6BC9C0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57E3-43F7-43D1-ACF9-3110A048C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E00C-A417-4188-AA87-3F867A1D2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BF81-E1E6-49C8-8D39-972D3EF2E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7F73-2683-4B92-A3D6-C383E8CB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FCBD-57E3-4F29-ABE9-CF70071A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D46B-6656-4AB7-BED5-102ABCC4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907F-8AFD-4D91-A086-6E3413D6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EF5D-CB6F-43BF-B31F-E3BA6466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C069-86D1-4B76-9400-2EBD074E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B329-F851-4E3D-99A8-E3D56B45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B3A1-E46A-42CC-A55B-644C5994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F55F-A9D7-46E5-8011-6F728573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0C41-6AAA-414D-A67C-4663A656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6710-B512-45A6-B392-D7B4CD65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D976-C963-4FC0-8B6E-87BB2E33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BC65-3F25-47D3-8C82-F29ACC46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B1A8-3902-45FE-947D-37220F20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A521-54E1-42AB-B5EC-3DB62FA8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74F6-403F-4182-A12F-870BFACA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1A6F-4A3A-41BD-8BD5-AB8E6688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4518-D295-4091-98BB-F0E34C58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9F4F-025B-46F0-A526-447D8FED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75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6133"/>
                  </a:gs>
                  <a:gs pos="100000">
                    <a:srgbClr val="4f5e3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4b582e"/>
                  </a:gs>
                  <a:gs pos="50000">
                    <a:srgbClr val="526133"/>
                  </a:gs>
                  <a:gs pos="100000">
                    <a:srgbClr val="4b582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6AF4-9D01-4D2E-AAEA-86207D85CC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75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6133"/>
                  </a:gs>
                  <a:gs pos="100000">
                    <a:srgbClr val="4f5e3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4b582e"/>
                  </a:gs>
                  <a:gs pos="50000">
                    <a:srgbClr val="526133"/>
                  </a:gs>
                  <a:gs pos="100000">
                    <a:srgbClr val="4b582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81F4-E471-46C3-83DE-822E98A24B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honors_algebra_2_homework_assign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5.5 Completing the Squar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. 28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What is completing the square used for?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8540640" cy="32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mpleting the square is used for all those not factorable problems!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t is used to solve these equations for the variabl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Rule for Completing the Squa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4"/>
              <p:cNvSpPr txBox="1"/>
              <p:nvPr/>
            </p:nvSpPr>
            <p:spPr>
              <a:xfrm>
                <a:off x="1981080" y="1371600"/>
                <a:ext cx="17989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6"/>
              <p:cNvSpPr txBox="1"/>
              <p:nvPr/>
            </p:nvSpPr>
            <p:spPr>
              <a:xfrm>
                <a:off x="1447920" y="2286000"/>
                <a:ext cx="3006720" cy="15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8"/>
              <p:cNvSpPr txBox="1"/>
              <p:nvPr/>
            </p:nvSpPr>
            <p:spPr>
              <a:xfrm>
                <a:off x="1600200" y="3962520"/>
                <a:ext cx="2590920" cy="18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92" name="Text Box 10"/>
          <p:cNvSpPr/>
          <p:nvPr/>
        </p:nvSpPr>
        <p:spPr>
          <a:xfrm>
            <a:off x="5486400" y="28954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is is now a PST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Line 11"/>
          <p:cNvSpPr/>
          <p:nvPr/>
        </p:nvSpPr>
        <p:spPr>
          <a:xfrm flipH="1">
            <a:off x="4343040" y="3124080"/>
            <a:ext cx="1143000" cy="0"/>
          </a:xfrm>
          <a:prstGeom prst="line">
            <a:avLst/>
          </a:prstGeom>
          <a:ln w="76320">
            <a:solidFill>
              <a:srgbClr val="ffcc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5715000" y="34290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o, it factors into thi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Line 13"/>
          <p:cNvSpPr/>
          <p:nvPr/>
        </p:nvSpPr>
        <p:spPr>
          <a:xfrm flipH="1">
            <a:off x="4267080" y="3809880"/>
            <a:ext cx="1447920" cy="9144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385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xample: Find the value of c that makes this a PST, then write the expression  as the square of a binomial.   x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-3x+c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2742840"/>
            <a:ext cx="41940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=-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4"/>
              <p:cNvSpPr txBox="1"/>
              <p:nvPr/>
            </p:nvSpPr>
            <p:spPr>
              <a:xfrm>
                <a:off x="304920" y="3276720"/>
                <a:ext cx="27381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6"/>
              <p:cNvSpPr txBox="1"/>
              <p:nvPr/>
            </p:nvSpPr>
            <p:spPr>
              <a:xfrm>
                <a:off x="762120" y="4876920"/>
                <a:ext cx="1522440" cy="10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0" name="Oval 8"/>
          <p:cNvSpPr/>
          <p:nvPr/>
        </p:nvSpPr>
        <p:spPr>
          <a:xfrm>
            <a:off x="1143000" y="4724280"/>
            <a:ext cx="1219320" cy="137160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9"/>
              <p:cNvSpPr txBox="1"/>
              <p:nvPr/>
            </p:nvSpPr>
            <p:spPr>
              <a:xfrm>
                <a:off x="5486400" y="4800600"/>
                <a:ext cx="220968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2" name="Oval 11"/>
          <p:cNvSpPr/>
          <p:nvPr/>
        </p:nvSpPr>
        <p:spPr>
          <a:xfrm>
            <a:off x="5181480" y="4572000"/>
            <a:ext cx="2741760" cy="190188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12"/>
              <p:cNvSpPr txBox="1"/>
              <p:nvPr/>
            </p:nvSpPr>
            <p:spPr>
              <a:xfrm>
                <a:off x="5181480" y="2590920"/>
                <a:ext cx="259092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4" name="Line 14"/>
          <p:cNvSpPr/>
          <p:nvPr/>
        </p:nvSpPr>
        <p:spPr>
          <a:xfrm flipV="1">
            <a:off x="2362320" y="2437920"/>
            <a:ext cx="2133360" cy="29718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xample: Solve by completing the square.   x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+6x-8=0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447560"/>
            <a:ext cx="43466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6x-8=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6x=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6x+___=8+___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6x+9=8+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x+3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1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4"/>
              <p:cNvSpPr txBox="1"/>
              <p:nvPr/>
            </p:nvSpPr>
            <p:spPr>
              <a:xfrm>
                <a:off x="457200" y="2971800"/>
                <a:ext cx="342900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6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Oval 6"/>
          <p:cNvSpPr/>
          <p:nvPr/>
        </p:nvSpPr>
        <p:spPr>
          <a:xfrm>
            <a:off x="3505320" y="3352680"/>
            <a:ext cx="457200" cy="45720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Oval 7"/>
          <p:cNvSpPr/>
          <p:nvPr/>
        </p:nvSpPr>
        <p:spPr>
          <a:xfrm>
            <a:off x="1828800" y="4114800"/>
            <a:ext cx="380880" cy="38088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Oval 8"/>
          <p:cNvSpPr/>
          <p:nvPr/>
        </p:nvSpPr>
        <p:spPr>
          <a:xfrm>
            <a:off x="2743200" y="4038480"/>
            <a:ext cx="380880" cy="53352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9"/>
              <p:cNvSpPr txBox="1"/>
              <p:nvPr/>
            </p:nvSpPr>
            <p:spPr>
              <a:xfrm>
                <a:off x="609480" y="5029200"/>
                <a:ext cx="17528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11"/>
              <p:cNvSpPr txBox="1"/>
              <p:nvPr/>
            </p:nvSpPr>
            <p:spPr>
              <a:xfrm>
                <a:off x="533520" y="5715000"/>
                <a:ext cx="19047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13" name="Oval 13"/>
          <p:cNvSpPr/>
          <p:nvPr/>
        </p:nvSpPr>
        <p:spPr>
          <a:xfrm>
            <a:off x="914400" y="5715000"/>
            <a:ext cx="1752480" cy="685800"/>
          </a:xfrm>
          <a:prstGeom prst="ellipse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Text Box 14"/>
          <p:cNvSpPr/>
          <p:nvPr/>
        </p:nvSpPr>
        <p:spPr>
          <a:xfrm>
            <a:off x="4724280" y="2590920"/>
            <a:ext cx="441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on’t forge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Whatever you add to one side of an equation, you MUST add to the other sid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Line 15"/>
          <p:cNvSpPr/>
          <p:nvPr/>
        </p:nvSpPr>
        <p:spPr>
          <a:xfrm flipH="1" flipV="1">
            <a:off x="3809520" y="2742840"/>
            <a:ext cx="838440" cy="15228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Line 16"/>
          <p:cNvSpPr/>
          <p:nvPr/>
        </p:nvSpPr>
        <p:spPr>
          <a:xfrm flipH="1">
            <a:off x="3276720" y="4114800"/>
            <a:ext cx="1371600" cy="15228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Examples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9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10x+30=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2x+6=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2x=-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2x+__=-6+__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2x+1=-6+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x-1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-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495320" y="1142640"/>
            <a:ext cx="41943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12x+18=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4x+6=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4x=-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4x+__=-6+__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4x+4=-6+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x-2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6"/>
              <p:cNvSpPr txBox="1"/>
              <p:nvPr/>
            </p:nvSpPr>
            <p:spPr>
              <a:xfrm>
                <a:off x="685800" y="3124080"/>
                <a:ext cx="28576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7"/>
              <p:cNvSpPr txBox="1"/>
              <p:nvPr/>
            </p:nvSpPr>
            <p:spPr>
              <a:xfrm>
                <a:off x="611280" y="4952880"/>
                <a:ext cx="250020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8"/>
              <p:cNvSpPr txBox="1"/>
              <p:nvPr/>
            </p:nvSpPr>
            <p:spPr>
              <a:xfrm>
                <a:off x="762120" y="5715000"/>
                <a:ext cx="22478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23" name="Oval 9"/>
          <p:cNvSpPr/>
          <p:nvPr/>
        </p:nvSpPr>
        <p:spPr>
          <a:xfrm>
            <a:off x="1295280" y="5715000"/>
            <a:ext cx="1981440" cy="83808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10"/>
              <p:cNvSpPr txBox="1"/>
              <p:nvPr/>
            </p:nvSpPr>
            <p:spPr>
              <a:xfrm>
                <a:off x="4876920" y="3048120"/>
                <a:ext cx="288288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11"/>
              <p:cNvSpPr txBox="1"/>
              <p:nvPr/>
            </p:nvSpPr>
            <p:spPr>
              <a:xfrm>
                <a:off x="5062680" y="4952880"/>
                <a:ext cx="23731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12"/>
              <p:cNvSpPr txBox="1"/>
              <p:nvPr/>
            </p:nvSpPr>
            <p:spPr>
              <a:xfrm>
                <a:off x="5105520" y="5638680"/>
                <a:ext cx="21906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±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27" name="Oval 13"/>
          <p:cNvSpPr/>
          <p:nvPr/>
        </p:nvSpPr>
        <p:spPr>
          <a:xfrm>
            <a:off x="5562720" y="5562720"/>
            <a:ext cx="1904760" cy="91440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5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500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6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Last Example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!  Write the quadratic function y=x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+6x+16 in vertex form. 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What is the vertex of the function’s graph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=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6x+1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-16=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6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-16+__=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6x+__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-16+9=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6x+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-7=(x+3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=(x+3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the equation, in vertex form, is y=(x+3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7, then the vertex must be (-3,7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6"/>
              <p:cNvSpPr txBox="1"/>
              <p:nvPr/>
            </p:nvSpPr>
            <p:spPr>
              <a:xfrm>
                <a:off x="609480" y="3200400"/>
                <a:ext cx="228600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6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2" name="Oval 8"/>
          <p:cNvSpPr/>
          <p:nvPr/>
        </p:nvSpPr>
        <p:spPr>
          <a:xfrm>
            <a:off x="0" y="5105520"/>
            <a:ext cx="2743200" cy="7617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Oval 9"/>
          <p:cNvSpPr/>
          <p:nvPr/>
        </p:nvSpPr>
        <p:spPr>
          <a:xfrm>
            <a:off x="5410080" y="2895480"/>
            <a:ext cx="1295640" cy="53352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7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2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Assignment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55" dur="1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456" dur="1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457" dur="1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65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,-107,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,-107,12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940"/>
                            </p:stCondLst>
                            <p:childTnLst>
                              <p:par>
                                <p:cTn id="475" nodeType="after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476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4940"/>
                            </p:stCondLst>
                            <p:childTnLst>
                              <p:par>
                                <p:cTn id="479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15:58:12Z</dcterms:created>
  <dc:creator>julie.geoghagan</dc:creator>
  <dc:description/>
  <dc:language>en-US</dc:language>
  <cp:lastModifiedBy>test</cp:lastModifiedBy>
  <dcterms:modified xsi:type="dcterms:W3CDTF">2014-04-14T18:54:34Z</dcterms:modified>
  <cp:revision>20</cp:revision>
  <dc:subject/>
  <dc:title>5.5 Completing the Square</dc:title>
</cp:coreProperties>
</file>